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dt" idx="9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a69564"/>
                </a:solidFill>
                <a:latin typeface="Garamond"/>
              </a:rPr>
              <a:t>Click to move the slide</a:t>
            </a:r>
            <a:endParaRPr b="1" lang="en-US" sz="60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ftr" idx="10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 type="sldNum" idx="11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76617BD-06F2-492A-9C0C-D278BB49B2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0976096-9DD2-4F3C-BFDA-68D3203753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330120" y="542880"/>
            <a:ext cx="6351840" cy="476424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351000" y="5553000"/>
            <a:ext cx="6308640" cy="33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F60478-0735-4E3E-B7E9-DA1B4DCDF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5A07A7-911C-4EA7-AC18-318DD7F36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DE99A9-B304-497D-9955-86B51444A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ABC712-9C83-4525-BF08-3B0C957A0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77B225-27CE-4B57-BD09-F1417A11B2C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C3DA16-E33B-4A99-846C-BD7B4113689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354544-016C-4475-9DE2-CB30A400D89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C8F1DF-2689-4EDA-BE0A-EEB9B559A30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74BE45-7598-437B-83D1-02FC12E6C2A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FF0069-B6B5-445B-8B86-85B8CC8CCEE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C62440-0165-40AD-9AFA-C889BE36DB6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C99053-7180-4FBE-BBC5-15A6ADCEC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75053F-9A34-4D09-B598-E761F77825E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0D172C-F550-4470-A2F9-A4B08702596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139281-C7C0-48E8-AB1E-D17DDB354F3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ACBD71-E97E-4DA3-A839-55A7003846C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E393C9-0536-4267-BB8A-6A7C87923F86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42D9BB0-6B67-4289-ACB5-9B36C0278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15909ED-D1CA-447F-9991-D06D10417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7E65DF6-3883-4404-8A81-D207774EB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1AFB2B3-AB9F-44A6-959A-2B7E456EE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B6E1914-985D-4E10-B996-EC22DCD49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BCB26A-8C97-44CB-BC6E-66EE08AFD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E073834-508C-4198-BB0B-5C497AE74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E640CFB-C797-4855-9BB5-B6728E09B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32B8706-ED7A-4A81-BE62-4F00F8373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EAB247D-B70C-408F-B6C7-619A783C6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12369B3-7E2C-4B5A-AE28-2B50688FD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7A63D5C-E0DC-45CA-8CE6-CE99DF5A7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2631992-A77E-4A42-ADB2-96B32DF3C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C38CC5-B10A-428D-ACBF-BBA2BE6F6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9B9174-431A-4BBE-BC2D-5908C5100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911067-5AD1-4F3D-83B4-2DEABC9B1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4363F0-979F-4714-9462-FDC47B1F4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4E70D6-35CB-4B4A-BA3F-74583C907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532957-9718-43A4-BD2F-6EB216103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b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Dra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7E1E0-145B-49B0-8AD7-AF0CE0E58A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1d9bf"/>
                  </a:gs>
                  <a:gs pos="100000">
                    <a:srgbClr val="f9f0d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1d9bf"/>
                  </a:gs>
                  <a:gs pos="100000">
                    <a:srgbClr val="f9f0d3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c3ac"/>
                  </a:gs>
                  <a:gs pos="100000">
                    <a:srgbClr val="f9f0d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f9f0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9f0d3"/>
                  </a:gs>
                  <a:gs pos="100000">
                    <a:srgbClr val="d9d2b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f9f0d3"/>
                </a:gs>
                <a:gs pos="100000">
                  <a:srgbClr val="d2ca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b25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efdeaf"/>
                </a:gs>
                <a:gs pos="100000">
                  <a:srgbClr val="f9f0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b25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69564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Dra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bfbfa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a6956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bfbfa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4b25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4b25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b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240" y="7920"/>
            <a:ext cx="9140760" cy="6850080"/>
            <a:chOff x="3240" y="792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6440" y="3548160"/>
              <a:ext cx="6392880" cy="3309840"/>
              <a:chOff x="2746440" y="354816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6440" y="420516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1d9bf"/>
                  </a:gs>
                  <a:gs pos="100000">
                    <a:srgbClr val="f9f0d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3280" y="424800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1d9bf"/>
                  </a:gs>
                  <a:gs pos="100000">
                    <a:srgbClr val="f9f0d3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6920" y="531972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c3ac"/>
                  </a:gs>
                  <a:gs pos="100000">
                    <a:srgbClr val="f9f0d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5720" y="354816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f9f0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8520" y="368604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9f0d3"/>
                  </a:gs>
                  <a:gs pos="100000">
                    <a:srgbClr val="d9d2b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6880" y="213660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f9f0d3"/>
                </a:gs>
                <a:gs pos="100000">
                  <a:srgbClr val="d2ca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b25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240" y="792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efdeaf"/>
                </a:gs>
                <a:gs pos="100000">
                  <a:srgbClr val="f9f0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b25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a69564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ftr" idx="4"/>
          </p:nvPr>
        </p:nvSpPr>
        <p:spPr>
          <a:xfrm>
            <a:off x="304560" y="61718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Dra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sldNum" idx="5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8D0E6-6356-4D6C-98F3-755AE43807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b2500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a69564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2500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4b2500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bfbfa7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b2500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b2500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4b25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b2500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4b25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b2500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b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DCD98-61EF-4F41-BD17-BB44A17F4B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b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25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69564"/>
                </a:solidFill>
                <a:latin typeface="Garamond"/>
              </a:rPr>
              <a:t> </a:t>
            </a:r>
            <a:r>
              <a:rPr b="1" lang="en-US" sz="5400" spc="-1" strike="noStrike">
                <a:solidFill>
                  <a:srgbClr val="a69564"/>
                </a:solidFill>
                <a:latin typeface="Garamond"/>
              </a:rPr>
              <a:t>Learning and Achievement </a:t>
            </a:r>
            <a:br>
              <a:rPr sz="5400"/>
            </a:br>
            <a:endParaRPr b="1" lang="en-US" sz="5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1523880" y="4495320"/>
            <a:ext cx="64008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b2500"/>
                </a:solidFill>
                <a:latin typeface="Garamond"/>
              </a:rPr>
              <a:t>School Libraries</a:t>
            </a:r>
            <a:endParaRPr b="0" lang="en-US" sz="48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49" name=""/>
          <p:cNvSpPr/>
          <p:nvPr/>
        </p:nvSpPr>
        <p:spPr>
          <a:xfrm>
            <a:off x="1676520" y="2362320"/>
            <a:ext cx="5790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69564"/>
                </a:solidFill>
                <a:latin typeface="Garamond"/>
              </a:rPr>
              <a:t>Across the </a:t>
            </a:r>
            <a:br>
              <a:rPr sz="4400"/>
            </a:br>
            <a:r>
              <a:rPr b="1" lang="en-US" sz="4400" spc="-1" strike="noStrike">
                <a:solidFill>
                  <a:srgbClr val="a69564"/>
                </a:solidFill>
                <a:latin typeface="Garamond"/>
              </a:rPr>
              <a:t>Curriculum</a:t>
            </a:r>
            <a:endParaRPr b="0" lang="en-US" sz="44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76520" y="3733920"/>
            <a:ext cx="5790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69564"/>
                </a:solidFill>
                <a:latin typeface="Garamond"/>
              </a:rPr>
              <a:t>For All Students</a:t>
            </a:r>
            <a:endParaRPr b="0" lang="en-US" sz="44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NYSED/School Library Services Summit June 29 and 30, 20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6C1E9A-5AEC-4DEE-A3F8-FF959468CBB8}" type="slidenum">
              <a:t>1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b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" name=""/>
          <p:cNvGrpSpPr/>
          <p:nvPr/>
        </p:nvGrpSpPr>
        <p:grpSpPr>
          <a:xfrm>
            <a:off x="3505320" y="762120"/>
            <a:ext cx="2409480" cy="2632680"/>
            <a:chOff x="3505320" y="762120"/>
            <a:chExt cx="2409480" cy="2632680"/>
          </a:xfrm>
        </p:grpSpPr>
        <p:sp>
          <p:nvSpPr>
            <p:cNvPr id="152" name=""/>
            <p:cNvSpPr/>
            <p:nvPr/>
          </p:nvSpPr>
          <p:spPr>
            <a:xfrm flipV="1">
              <a:off x="4699080" y="1335960"/>
              <a:ext cx="0" cy="2058840"/>
            </a:xfrm>
            <a:prstGeom prst="line">
              <a:avLst/>
            </a:prstGeom>
            <a:ln w="28440">
              <a:solidFill>
                <a:srgbClr val="4b2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b2500"/>
                </a:solidFill>
                <a:latin typeface="Arial"/>
              </a:endParaRPr>
            </a:p>
          </p:txBody>
        </p:sp>
        <p:grpSp>
          <p:nvGrpSpPr>
            <p:cNvPr id="153" name=""/>
            <p:cNvGrpSpPr/>
            <p:nvPr/>
          </p:nvGrpSpPr>
          <p:grpSpPr>
            <a:xfrm>
              <a:off x="3505320" y="762120"/>
              <a:ext cx="2409480" cy="1250280"/>
              <a:chOff x="3505320" y="762120"/>
              <a:chExt cx="2409480" cy="1250280"/>
            </a:xfrm>
          </p:grpSpPr>
          <p:sp>
            <p:nvSpPr>
              <p:cNvPr id="154" name=""/>
              <p:cNvSpPr/>
              <p:nvPr/>
            </p:nvSpPr>
            <p:spPr>
              <a:xfrm>
                <a:off x="3505320" y="762120"/>
                <a:ext cx="2409480" cy="1250280"/>
              </a:xfrm>
              <a:prstGeom prst="ellipse">
                <a:avLst/>
              </a:prstGeom>
              <a:gradFill rotWithShape="0">
                <a:gsLst>
                  <a:gs pos="0">
                    <a:srgbClr val="00cc99"/>
                  </a:gs>
                  <a:gs pos="100000">
                    <a:srgbClr val="003d2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7160" bIns="46800" anchor="ctr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3634920" y="842400"/>
                <a:ext cx="2143080" cy="1083960"/>
              </a:xfrm>
              <a:prstGeom prst="ellipse">
                <a:avLst/>
              </a:prstGeom>
              <a:gradFill rotWithShape="0">
                <a:gsLst>
                  <a:gs pos="0">
                    <a:srgbClr val="003d2e"/>
                  </a:gs>
                  <a:gs pos="100000">
                    <a:srgbClr val="00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7160" bIns="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99"/>
                    </a:solidFill>
                    <a:latin typeface="Arial"/>
                  </a:rPr>
                  <a:t>Curriculum and </a:t>
                </a:r>
                <a:br>
                  <a:rPr sz="2000"/>
                </a:br>
                <a:r>
                  <a:rPr b="1" lang="en-US" sz="2000" spc="-1" strike="noStrike">
                    <a:solidFill>
                      <a:srgbClr val="ffff99"/>
                    </a:solidFill>
                    <a:latin typeface="Arial"/>
                  </a:rPr>
                  <a:t>Instruction</a:t>
                </a:r>
                <a:endParaRPr b="0" lang="en-US" sz="20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</p:grpSp>
      </p:grpSp>
      <p:grpSp>
        <p:nvGrpSpPr>
          <p:cNvPr id="156" name=""/>
          <p:cNvGrpSpPr/>
          <p:nvPr/>
        </p:nvGrpSpPr>
        <p:grpSpPr>
          <a:xfrm>
            <a:off x="5000760" y="2057400"/>
            <a:ext cx="4142880" cy="1250640"/>
            <a:chOff x="5000760" y="2057400"/>
            <a:chExt cx="4142880" cy="1250640"/>
          </a:xfrm>
        </p:grpSpPr>
        <p:sp>
          <p:nvSpPr>
            <p:cNvPr id="157" name=""/>
            <p:cNvSpPr/>
            <p:nvPr/>
          </p:nvSpPr>
          <p:spPr>
            <a:xfrm flipV="1">
              <a:off x="5000760" y="2678040"/>
              <a:ext cx="2895480" cy="603360"/>
            </a:xfrm>
            <a:prstGeom prst="line">
              <a:avLst/>
            </a:prstGeom>
            <a:ln w="28440">
              <a:solidFill>
                <a:srgbClr val="4b2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164520" anchor="ctr">
              <a:noAutofit/>
            </a:bodyPr>
            <a:p>
              <a:endParaRPr b="0" lang="en-US" sz="1800" spc="-1" strike="noStrike">
                <a:solidFill>
                  <a:srgbClr val="4b2500"/>
                </a:solidFill>
                <a:latin typeface="Arial"/>
              </a:endParaRPr>
            </a:p>
          </p:txBody>
        </p:sp>
        <p:grpSp>
          <p:nvGrpSpPr>
            <p:cNvPr id="158" name=""/>
            <p:cNvGrpSpPr/>
            <p:nvPr/>
          </p:nvGrpSpPr>
          <p:grpSpPr>
            <a:xfrm>
              <a:off x="6734160" y="2057400"/>
              <a:ext cx="2409480" cy="1250640"/>
              <a:chOff x="6734160" y="2057400"/>
              <a:chExt cx="2409480" cy="1250640"/>
            </a:xfrm>
          </p:grpSpPr>
          <p:sp>
            <p:nvSpPr>
              <p:cNvPr id="159" name=""/>
              <p:cNvSpPr/>
              <p:nvPr/>
            </p:nvSpPr>
            <p:spPr>
              <a:xfrm>
                <a:off x="6734160" y="2057400"/>
                <a:ext cx="2409480" cy="1250640"/>
              </a:xfrm>
              <a:prstGeom prst="ellipse">
                <a:avLst/>
              </a:prstGeom>
              <a:gradFill rotWithShape="0">
                <a:gsLst>
                  <a:gs pos="0">
                    <a:srgbClr val="00cc99"/>
                  </a:gs>
                  <a:gs pos="100000">
                    <a:srgbClr val="003d2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7160" bIns="164520" anchor="ctr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6863760" y="2138040"/>
                <a:ext cx="2143080" cy="1084320"/>
              </a:xfrm>
              <a:prstGeom prst="ellipse">
                <a:avLst/>
              </a:prstGeom>
              <a:gradFill rotWithShape="0">
                <a:gsLst>
                  <a:gs pos="0">
                    <a:srgbClr val="003d2e"/>
                  </a:gs>
                  <a:gs pos="100000">
                    <a:srgbClr val="00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7160" bIns="16452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99"/>
                    </a:solidFill>
                    <a:latin typeface="Arial"/>
                  </a:rPr>
                  <a:t>Materials </a:t>
                </a:r>
                <a:endParaRPr b="0" lang="en-US" sz="2000" spc="-1" strike="noStrike">
                  <a:solidFill>
                    <a:srgbClr val="4b2500"/>
                  </a:solidFill>
                  <a:latin typeface="Arial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99"/>
                    </a:solidFill>
                    <a:latin typeface="Arial"/>
                  </a:rPr>
                  <a:t>Support</a:t>
                </a:r>
                <a:endParaRPr b="0" lang="en-US" sz="20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</p:grpSp>
      </p:grpSp>
      <p:grpSp>
        <p:nvGrpSpPr>
          <p:cNvPr id="161" name=""/>
          <p:cNvGrpSpPr/>
          <p:nvPr/>
        </p:nvGrpSpPr>
        <p:grpSpPr>
          <a:xfrm>
            <a:off x="5378040" y="3122640"/>
            <a:ext cx="2670120" cy="2493360"/>
            <a:chOff x="5378040" y="3122640"/>
            <a:chExt cx="2670120" cy="2493360"/>
          </a:xfrm>
        </p:grpSpPr>
        <p:sp>
          <p:nvSpPr>
            <p:cNvPr id="162" name=""/>
            <p:cNvSpPr/>
            <p:nvPr/>
          </p:nvSpPr>
          <p:spPr>
            <a:xfrm>
              <a:off x="5378040" y="3122640"/>
              <a:ext cx="1391040" cy="1902960"/>
            </a:xfrm>
            <a:prstGeom prst="line">
              <a:avLst/>
            </a:prstGeom>
            <a:ln w="28440">
              <a:solidFill>
                <a:srgbClr val="4b2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b2500"/>
                </a:solidFill>
                <a:latin typeface="Arial"/>
              </a:endParaRPr>
            </a:p>
          </p:txBody>
        </p:sp>
        <p:grpSp>
          <p:nvGrpSpPr>
            <p:cNvPr id="163" name=""/>
            <p:cNvGrpSpPr/>
            <p:nvPr/>
          </p:nvGrpSpPr>
          <p:grpSpPr>
            <a:xfrm>
              <a:off x="5638680" y="4365360"/>
              <a:ext cx="2409480" cy="1250640"/>
              <a:chOff x="5638680" y="4365360"/>
              <a:chExt cx="2409480" cy="1250640"/>
            </a:xfrm>
          </p:grpSpPr>
          <p:sp>
            <p:nvSpPr>
              <p:cNvPr id="164" name=""/>
              <p:cNvSpPr/>
              <p:nvPr/>
            </p:nvSpPr>
            <p:spPr>
              <a:xfrm>
                <a:off x="5638680" y="4365360"/>
                <a:ext cx="2409480" cy="1250640"/>
              </a:xfrm>
              <a:prstGeom prst="ellipse">
                <a:avLst/>
              </a:prstGeom>
              <a:gradFill rotWithShape="0">
                <a:gsLst>
                  <a:gs pos="0">
                    <a:srgbClr val="00cc99"/>
                  </a:gs>
                  <a:gs pos="100000">
                    <a:srgbClr val="003d2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7160" bIns="46800" anchor="ctr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5768280" y="4446000"/>
                <a:ext cx="2143080" cy="1084320"/>
              </a:xfrm>
              <a:prstGeom prst="ellipse">
                <a:avLst/>
              </a:prstGeom>
              <a:gradFill rotWithShape="0">
                <a:gsLst>
                  <a:gs pos="0">
                    <a:srgbClr val="003d2e"/>
                  </a:gs>
                  <a:gs pos="100000">
                    <a:srgbClr val="00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7160" bIns="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99"/>
                    </a:solidFill>
                    <a:latin typeface="Arial"/>
                  </a:rPr>
                  <a:t> </a:t>
                </a:r>
                <a:r>
                  <a:rPr b="1" lang="en-US" sz="2000" spc="-1" strike="noStrike">
                    <a:solidFill>
                      <a:srgbClr val="ffff99"/>
                    </a:solidFill>
                    <a:latin typeface="Arial"/>
                  </a:rPr>
                  <a:t>System </a:t>
                </a:r>
                <a:endParaRPr b="0" lang="en-US" sz="2000" spc="-1" strike="noStrike">
                  <a:solidFill>
                    <a:srgbClr val="4b2500"/>
                  </a:solidFill>
                  <a:latin typeface="Arial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99"/>
                    </a:solidFill>
                    <a:latin typeface="Arial"/>
                  </a:rPr>
                  <a:t>Support</a:t>
                </a:r>
                <a:endParaRPr b="0" lang="en-US" sz="20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</p:grpSp>
      </p:grpSp>
      <p:grpSp>
        <p:nvGrpSpPr>
          <p:cNvPr id="166" name=""/>
          <p:cNvGrpSpPr/>
          <p:nvPr/>
        </p:nvGrpSpPr>
        <p:grpSpPr>
          <a:xfrm>
            <a:off x="1371600" y="3199320"/>
            <a:ext cx="2631960" cy="2493000"/>
            <a:chOff x="1371600" y="3199320"/>
            <a:chExt cx="2631960" cy="2493000"/>
          </a:xfrm>
        </p:grpSpPr>
        <p:sp>
          <p:nvSpPr>
            <p:cNvPr id="167" name=""/>
            <p:cNvSpPr/>
            <p:nvPr/>
          </p:nvSpPr>
          <p:spPr>
            <a:xfrm flipH="1">
              <a:off x="2611800" y="3199320"/>
              <a:ext cx="1391760" cy="1902240"/>
            </a:xfrm>
            <a:prstGeom prst="line">
              <a:avLst/>
            </a:prstGeom>
            <a:ln w="28440">
              <a:solidFill>
                <a:srgbClr val="4b2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b2500"/>
                </a:solidFill>
                <a:latin typeface="Arial"/>
              </a:endParaRPr>
            </a:p>
          </p:txBody>
        </p:sp>
        <p:grpSp>
          <p:nvGrpSpPr>
            <p:cNvPr id="168" name=""/>
            <p:cNvGrpSpPr/>
            <p:nvPr/>
          </p:nvGrpSpPr>
          <p:grpSpPr>
            <a:xfrm>
              <a:off x="1371600" y="4441680"/>
              <a:ext cx="2409480" cy="1250640"/>
              <a:chOff x="1371600" y="4441680"/>
              <a:chExt cx="2409480" cy="1250640"/>
            </a:xfrm>
          </p:grpSpPr>
          <p:sp>
            <p:nvSpPr>
              <p:cNvPr id="169" name=""/>
              <p:cNvSpPr/>
              <p:nvPr/>
            </p:nvSpPr>
            <p:spPr>
              <a:xfrm>
                <a:off x="1371600" y="4441680"/>
                <a:ext cx="2409480" cy="1250640"/>
              </a:xfrm>
              <a:prstGeom prst="ellipse">
                <a:avLst/>
              </a:prstGeom>
              <a:gradFill rotWithShape="0">
                <a:gsLst>
                  <a:gs pos="0">
                    <a:srgbClr val="00cc99"/>
                  </a:gs>
                  <a:gs pos="100000">
                    <a:srgbClr val="003d2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7160" bIns="46800" anchor="ctr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1501200" y="4522320"/>
                <a:ext cx="2143080" cy="1084320"/>
              </a:xfrm>
              <a:prstGeom prst="ellipse">
                <a:avLst/>
              </a:prstGeom>
              <a:gradFill rotWithShape="0">
                <a:gsLst>
                  <a:gs pos="0">
                    <a:srgbClr val="003d2e"/>
                  </a:gs>
                  <a:gs pos="100000">
                    <a:srgbClr val="00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7160" bIns="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99"/>
                    </a:solidFill>
                    <a:latin typeface="Arial"/>
                  </a:rPr>
                  <a:t>Assessment</a:t>
                </a:r>
                <a:endParaRPr b="0" lang="en-US" sz="20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</p:grpSp>
      </p:grpSp>
      <p:grpSp>
        <p:nvGrpSpPr>
          <p:cNvPr id="171" name=""/>
          <p:cNvGrpSpPr/>
          <p:nvPr/>
        </p:nvGrpSpPr>
        <p:grpSpPr>
          <a:xfrm>
            <a:off x="228600" y="2209680"/>
            <a:ext cx="4215960" cy="1250640"/>
            <a:chOff x="228600" y="2209680"/>
            <a:chExt cx="4215960" cy="1250640"/>
          </a:xfrm>
        </p:grpSpPr>
        <p:sp>
          <p:nvSpPr>
            <p:cNvPr id="172" name=""/>
            <p:cNvSpPr/>
            <p:nvPr/>
          </p:nvSpPr>
          <p:spPr>
            <a:xfrm flipH="1" flipV="1">
              <a:off x="1549080" y="2830320"/>
              <a:ext cx="2895480" cy="603360"/>
            </a:xfrm>
            <a:prstGeom prst="line">
              <a:avLst/>
            </a:prstGeom>
            <a:ln w="28440">
              <a:solidFill>
                <a:srgbClr val="4b2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b2500"/>
                </a:solidFill>
                <a:latin typeface="Arial"/>
              </a:endParaRPr>
            </a:p>
          </p:txBody>
        </p:sp>
        <p:grpSp>
          <p:nvGrpSpPr>
            <p:cNvPr id="173" name=""/>
            <p:cNvGrpSpPr/>
            <p:nvPr/>
          </p:nvGrpSpPr>
          <p:grpSpPr>
            <a:xfrm>
              <a:off x="228600" y="2209680"/>
              <a:ext cx="2409480" cy="1250640"/>
              <a:chOff x="228600" y="2209680"/>
              <a:chExt cx="2409480" cy="1250640"/>
            </a:xfrm>
          </p:grpSpPr>
          <p:sp>
            <p:nvSpPr>
              <p:cNvPr id="174" name=""/>
              <p:cNvSpPr/>
              <p:nvPr/>
            </p:nvSpPr>
            <p:spPr>
              <a:xfrm>
                <a:off x="228600" y="2209680"/>
                <a:ext cx="2409480" cy="1250640"/>
              </a:xfrm>
              <a:prstGeom prst="ellipse">
                <a:avLst/>
              </a:prstGeom>
              <a:gradFill rotWithShape="0">
                <a:gsLst>
                  <a:gs pos="0">
                    <a:srgbClr val="00cc99"/>
                  </a:gs>
                  <a:gs pos="100000">
                    <a:srgbClr val="003d2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7160" bIns="46800" anchor="ctr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358200" y="2290320"/>
                <a:ext cx="2143080" cy="1084320"/>
              </a:xfrm>
              <a:prstGeom prst="ellipse">
                <a:avLst/>
              </a:prstGeom>
              <a:gradFill rotWithShape="0">
                <a:gsLst>
                  <a:gs pos="0">
                    <a:srgbClr val="003d2e"/>
                  </a:gs>
                  <a:gs pos="100000">
                    <a:srgbClr val="00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7160" bIns="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99"/>
                    </a:solidFill>
                    <a:latin typeface="Arial"/>
                  </a:rPr>
                  <a:t>Administrative </a:t>
                </a:r>
                <a:br>
                  <a:rPr sz="2000"/>
                </a:br>
                <a:r>
                  <a:rPr b="1" lang="en-US" sz="2000" spc="-1" strike="noStrike">
                    <a:solidFill>
                      <a:srgbClr val="ffff99"/>
                    </a:solidFill>
                    <a:latin typeface="Arial"/>
                  </a:rPr>
                  <a:t>Support</a:t>
                </a:r>
                <a:endParaRPr b="0" lang="en-US" sz="20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"/>
          <p:cNvGrpSpPr/>
          <p:nvPr/>
        </p:nvGrpSpPr>
        <p:grpSpPr>
          <a:xfrm>
            <a:off x="2743200" y="2209680"/>
            <a:ext cx="3656880" cy="1904400"/>
            <a:chOff x="2743200" y="2209680"/>
            <a:chExt cx="3656880" cy="1904400"/>
          </a:xfrm>
        </p:grpSpPr>
        <p:sp>
          <p:nvSpPr>
            <p:cNvPr id="177" name=""/>
            <p:cNvSpPr/>
            <p:nvPr/>
          </p:nvSpPr>
          <p:spPr>
            <a:xfrm>
              <a:off x="2743200" y="2209680"/>
              <a:ext cx="3656880" cy="1904400"/>
            </a:xfrm>
            <a:prstGeom prst="ellipse">
              <a:avLst/>
            </a:prstGeom>
            <a:gradFill rotWithShape="0">
              <a:gsLst>
                <a:gs pos="0">
                  <a:srgbClr val="bfbfa7"/>
                </a:gs>
                <a:gs pos="100000">
                  <a:srgbClr val="39393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b25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939760" y="2332440"/>
              <a:ext cx="3252600" cy="1650960"/>
            </a:xfrm>
            <a:prstGeom prst="ellipse">
              <a:avLst/>
            </a:prstGeom>
            <a:gradFill rotWithShape="0">
              <a:gsLst>
                <a:gs pos="0">
                  <a:srgbClr val="393932"/>
                </a:gs>
                <a:gs pos="100000">
                  <a:srgbClr val="bfbfa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e3"/>
                  </a:solidFill>
                  <a:latin typeface="Arial"/>
                </a:rPr>
                <a:t>Information Literacy</a:t>
              </a:r>
              <a:br>
                <a:rPr sz="2000"/>
              </a:br>
              <a:r>
                <a:rPr b="1" lang="en-US" sz="2000" spc="-1" strike="noStrike">
                  <a:solidFill>
                    <a:srgbClr val="ffffe3"/>
                  </a:solidFill>
                  <a:latin typeface="Arial"/>
                </a:rPr>
                <a:t>Teaching and Learning</a:t>
              </a:r>
              <a:endParaRPr b="0" lang="en-US" sz="2000" spc="-1" strike="noStrike">
                <a:solidFill>
                  <a:srgbClr val="4b25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200160" y="166680"/>
            <a:ext cx="833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db6625"/>
                </a:solidFill>
                <a:latin typeface="Arial"/>
              </a:rPr>
              <a:t>  </a:t>
            </a:r>
            <a:r>
              <a:rPr b="1" i="1" lang="en-US" sz="2400" spc="-1" strike="noStrike">
                <a:solidFill>
                  <a:srgbClr val="db6625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db6625"/>
                </a:solidFill>
                <a:latin typeface="Arial"/>
              </a:rPr>
              <a:t>Systemic School Library Improvement</a:t>
            </a:r>
            <a:endParaRPr b="0" lang="en-US" sz="24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019920" y="6172200"/>
            <a:ext cx="2361960" cy="6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2500"/>
                </a:solidFill>
                <a:latin typeface="Garamond"/>
              </a:rPr>
              <a:t>Based on National Science Resource Center Reform Model </a:t>
            </a:r>
            <a:r>
              <a:rPr b="0" lang="en-US" sz="1400" spc="-1" strike="noStrike">
                <a:solidFill>
                  <a:srgbClr val="4b2500"/>
                </a:solidFill>
                <a:latin typeface="Garamond"/>
              </a:rPr>
              <a:t>© NSRC</a:t>
            </a:r>
            <a:endParaRPr b="0" lang="en-US" sz="14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NYSED/School Library Services Summit June 29 and 30, 200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D8E79E-BA12-4273-ADFD-DC3A312875CE}" type="slidenum">
              <a:t>2</a:t>
            </a:fld>
          </a:p>
        </p:txBody>
      </p:sp>
    </p:spTree>
  </p:cSld>
  <p:transition>
    <p:dissolve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57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b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066320" y="60912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69564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a69564"/>
                </a:solidFill>
                <a:latin typeface="Garamond"/>
              </a:rPr>
              <a:t>Middle-Level Education</a:t>
            </a: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312408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Review and revision of Library Media Middle Level Indicators of Achievement Checklists 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-72000" y="-1332720"/>
            <a:ext cx="2711880" cy="3366000"/>
            <a:chOff x="-72000" y="-1332720"/>
            <a:chExt cx="2711880" cy="3366000"/>
          </a:xfrm>
        </p:grpSpPr>
        <p:sp>
          <p:nvSpPr>
            <p:cNvPr id="184" name=""/>
            <p:cNvSpPr/>
            <p:nvPr/>
          </p:nvSpPr>
          <p:spPr>
            <a:xfrm flipH="1">
              <a:off x="1330560" y="-1332720"/>
              <a:ext cx="467640" cy="23104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b2500"/>
                </a:solidFill>
                <a:latin typeface="Arial"/>
              </a:endParaRPr>
            </a:p>
          </p:txBody>
        </p:sp>
        <p:grpSp>
          <p:nvGrpSpPr>
            <p:cNvPr id="185" name=""/>
            <p:cNvGrpSpPr/>
            <p:nvPr/>
          </p:nvGrpSpPr>
          <p:grpSpPr>
            <a:xfrm>
              <a:off x="-72000" y="-111240"/>
              <a:ext cx="2711880" cy="2144520"/>
              <a:chOff x="-72000" y="-111240"/>
              <a:chExt cx="2711880" cy="2144520"/>
            </a:xfrm>
          </p:grpSpPr>
          <p:sp>
            <p:nvSpPr>
              <p:cNvPr id="186" name=""/>
              <p:cNvSpPr/>
              <p:nvPr/>
            </p:nvSpPr>
            <p:spPr>
              <a:xfrm rot="20115000">
                <a:off x="78840" y="335520"/>
                <a:ext cx="2409480" cy="1250640"/>
              </a:xfrm>
              <a:prstGeom prst="ellipse">
                <a:avLst/>
              </a:prstGeom>
              <a:gradFill rotWithShape="0">
                <a:gsLst>
                  <a:gs pos="0">
                    <a:srgbClr val="00cc99"/>
                  </a:gs>
                  <a:gs pos="100000">
                    <a:srgbClr val="003d2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7160" bIns="46800" anchor="ctr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 rot="20115000">
                <a:off x="208080" y="417960"/>
                <a:ext cx="2143080" cy="1084320"/>
              </a:xfrm>
              <a:prstGeom prst="ellipse">
                <a:avLst/>
              </a:prstGeom>
              <a:gradFill rotWithShape="0">
                <a:gsLst>
                  <a:gs pos="0">
                    <a:srgbClr val="003d2e"/>
                  </a:gs>
                  <a:gs pos="100000">
                    <a:srgbClr val="00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7160" bIns="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99"/>
                    </a:solidFill>
                    <a:latin typeface="Arial"/>
                  </a:rPr>
                  <a:t>Assessment</a:t>
                </a:r>
                <a:endParaRPr b="0" lang="en-US" sz="20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</p:grpSp>
      </p:grpSp>
      <p:sp>
        <p:nvSpPr>
          <p:cNvPr id="188" name=""/>
          <p:cNvSpPr/>
          <p:nvPr/>
        </p:nvSpPr>
        <p:spPr>
          <a:xfrm>
            <a:off x="2362320" y="1600200"/>
            <a:ext cx="525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69564"/>
                </a:solidFill>
                <a:latin typeface="Garamond"/>
              </a:rPr>
              <a:t>Vital to Success in </a:t>
            </a:r>
            <a:br>
              <a:rPr sz="3600"/>
            </a:br>
            <a:r>
              <a:rPr b="1" lang="en-US" sz="3600" spc="-1" strike="noStrike">
                <a:solidFill>
                  <a:srgbClr val="a69564"/>
                </a:solidFill>
                <a:latin typeface="Garamond"/>
              </a:rPr>
              <a:t>High School</a:t>
            </a:r>
            <a:endParaRPr b="0" lang="en-US" sz="36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NYSED/School Library Services Summit June 29 and 30, 20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805056-CE9A-4C63-A8D5-127E2DEE07D8}" type="slidenum">
              <a:t>3</a:t>
            </a:fld>
          </a:p>
        </p:txBody>
      </p: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9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b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304920" y="2819520"/>
            <a:ext cx="85341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295280" y="1676520"/>
            <a:ext cx="7315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69564"/>
                </a:solidFill>
                <a:latin typeface="Garamond"/>
              </a:rPr>
              <a:t>Data Drives Decisions</a:t>
            </a:r>
            <a:endParaRPr b="0" lang="en-US" sz="5400" spc="-1" strike="noStrike">
              <a:solidFill>
                <a:srgbClr val="4b2500"/>
              </a:solidFill>
              <a:latin typeface="Arial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-5760" y="-1242720"/>
            <a:ext cx="2709360" cy="3342960"/>
            <a:chOff x="-5760" y="-1242720"/>
            <a:chExt cx="2709360" cy="3342960"/>
          </a:xfrm>
        </p:grpSpPr>
        <p:sp>
          <p:nvSpPr>
            <p:cNvPr id="192" name=""/>
            <p:cNvSpPr/>
            <p:nvPr/>
          </p:nvSpPr>
          <p:spPr>
            <a:xfrm flipH="1">
              <a:off x="1395360" y="-1242720"/>
              <a:ext cx="506160" cy="23022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b2500"/>
                </a:solidFill>
                <a:latin typeface="Arial"/>
              </a:endParaRPr>
            </a:p>
          </p:txBody>
        </p:sp>
        <p:grpSp>
          <p:nvGrpSpPr>
            <p:cNvPr id="193" name=""/>
            <p:cNvGrpSpPr/>
            <p:nvPr/>
          </p:nvGrpSpPr>
          <p:grpSpPr>
            <a:xfrm>
              <a:off x="-5760" y="-16200"/>
              <a:ext cx="2709360" cy="2116440"/>
              <a:chOff x="-5760" y="-16200"/>
              <a:chExt cx="2709360" cy="2116440"/>
            </a:xfrm>
          </p:grpSpPr>
          <p:sp>
            <p:nvSpPr>
              <p:cNvPr id="194" name=""/>
              <p:cNvSpPr/>
              <p:nvPr/>
            </p:nvSpPr>
            <p:spPr>
              <a:xfrm rot="20172600">
                <a:off x="144000" y="416520"/>
                <a:ext cx="2409480" cy="1250640"/>
              </a:xfrm>
              <a:prstGeom prst="ellipse">
                <a:avLst/>
              </a:prstGeom>
              <a:gradFill rotWithShape="0">
                <a:gsLst>
                  <a:gs pos="0">
                    <a:srgbClr val="00cc99"/>
                  </a:gs>
                  <a:gs pos="100000">
                    <a:srgbClr val="003d2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7160" bIns="46800" anchor="ctr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 rot="20172600">
                <a:off x="273240" y="498960"/>
                <a:ext cx="2143080" cy="1084320"/>
              </a:xfrm>
              <a:prstGeom prst="ellipse">
                <a:avLst/>
              </a:prstGeom>
              <a:gradFill rotWithShape="0">
                <a:gsLst>
                  <a:gs pos="0">
                    <a:srgbClr val="003d2e"/>
                  </a:gs>
                  <a:gs pos="100000">
                    <a:srgbClr val="00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7160" bIns="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99"/>
                    </a:solidFill>
                    <a:latin typeface="Arial"/>
                  </a:rPr>
                  <a:t>Assessment</a:t>
                </a:r>
                <a:endParaRPr b="0" lang="en-US" sz="20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457200" y="2819520"/>
            <a:ext cx="82296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b2500"/>
                </a:solidFill>
                <a:latin typeface="Garamond"/>
              </a:rPr>
              <a:t>Review and Revision</a:t>
            </a:r>
            <a:endParaRPr b="0" lang="en-US" sz="2400" spc="-1" strike="noStrike">
              <a:solidFill>
                <a:srgbClr val="4b2500"/>
              </a:solidFill>
              <a:latin typeface="Garamond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bfbfa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b2500"/>
                </a:solidFill>
                <a:latin typeface="Garamond"/>
              </a:rPr>
              <a:t>School Library sections of Basic Educational Data Surveys (BEDS)</a:t>
            </a:r>
            <a:br>
              <a:rPr sz="2400"/>
            </a:br>
            <a:r>
              <a:rPr b="1" lang="en-US" sz="2400" spc="-1" strike="noStrike">
                <a:solidFill>
                  <a:srgbClr val="4b2500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4b2500"/>
              </a:solidFill>
              <a:latin typeface="Garamond"/>
            </a:endParaRPr>
          </a:p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b2500"/>
                </a:solidFill>
                <a:latin typeface="Garamond"/>
              </a:rPr>
              <a:t>Statewide P-16 data systems</a:t>
            </a:r>
            <a:endParaRPr b="0" lang="en-US" sz="2400" spc="-1" strike="noStrike">
              <a:solidFill>
                <a:srgbClr val="4b2500"/>
              </a:solidFill>
              <a:latin typeface="Garamond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bfbfa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b2500"/>
                </a:solidFill>
                <a:latin typeface="Garamond"/>
              </a:rPr>
              <a:t>Link resources and certified specialists to student achievement</a:t>
            </a:r>
            <a:endParaRPr b="0" lang="en-US" sz="2400" spc="-1" strike="noStrike">
              <a:solidFill>
                <a:srgbClr val="4b2500"/>
              </a:solidFill>
              <a:latin typeface="Garamond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NYSED/School Library Services Summit June 29 and 30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7C6E21-83F8-4483-A503-6C3D997395C5}" type="slidenum">
              <a:t>4</a:t>
            </a:fld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3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b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a69564"/>
                </a:solidFill>
                <a:latin typeface="Garamond"/>
              </a:rPr>
              <a:t>Library Media Centers</a:t>
            </a:r>
            <a:br>
              <a:rPr sz="4000"/>
            </a:br>
            <a:r>
              <a:rPr b="1" lang="en-US" sz="4000" spc="-1" strike="noStrike">
                <a:solidFill>
                  <a:srgbClr val="a69564"/>
                </a:solidFill>
                <a:latin typeface="Garamond"/>
              </a:rPr>
              <a:t> Improve Student Achievement </a:t>
            </a:r>
            <a:endParaRPr b="1" lang="en-US" sz="40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761760" y="3428640"/>
            <a:ext cx="784836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Revised School Library Media Program Evaluation (SLMPE) Rubric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-158400" y="-1395000"/>
            <a:ext cx="2709360" cy="3342960"/>
            <a:chOff x="-158400" y="-1395000"/>
            <a:chExt cx="2709360" cy="3342960"/>
          </a:xfrm>
        </p:grpSpPr>
        <p:sp>
          <p:nvSpPr>
            <p:cNvPr id="200" name=""/>
            <p:cNvSpPr/>
            <p:nvPr/>
          </p:nvSpPr>
          <p:spPr>
            <a:xfrm flipH="1">
              <a:off x="1242720" y="-1395000"/>
              <a:ext cx="506160" cy="23022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b2500"/>
                </a:solidFill>
                <a:latin typeface="Arial"/>
              </a:endParaRPr>
            </a:p>
          </p:txBody>
        </p:sp>
        <p:grpSp>
          <p:nvGrpSpPr>
            <p:cNvPr id="201" name=""/>
            <p:cNvGrpSpPr/>
            <p:nvPr/>
          </p:nvGrpSpPr>
          <p:grpSpPr>
            <a:xfrm>
              <a:off x="-158400" y="-168480"/>
              <a:ext cx="2709360" cy="2116440"/>
              <a:chOff x="-158400" y="-168480"/>
              <a:chExt cx="2709360" cy="2116440"/>
            </a:xfrm>
          </p:grpSpPr>
          <p:sp>
            <p:nvSpPr>
              <p:cNvPr id="202" name=""/>
              <p:cNvSpPr/>
              <p:nvPr/>
            </p:nvSpPr>
            <p:spPr>
              <a:xfrm rot="20172600">
                <a:off x="-8280" y="264240"/>
                <a:ext cx="2409480" cy="1250640"/>
              </a:xfrm>
              <a:prstGeom prst="ellipse">
                <a:avLst/>
              </a:prstGeom>
              <a:gradFill rotWithShape="0">
                <a:gsLst>
                  <a:gs pos="0">
                    <a:srgbClr val="00cc99"/>
                  </a:gs>
                  <a:gs pos="100000">
                    <a:srgbClr val="003d2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7160" bIns="46800" anchor="ctr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 rot="20172600">
                <a:off x="120600" y="346680"/>
                <a:ext cx="2143080" cy="1084320"/>
              </a:xfrm>
              <a:prstGeom prst="ellipse">
                <a:avLst/>
              </a:prstGeom>
              <a:gradFill rotWithShape="0">
                <a:gsLst>
                  <a:gs pos="0">
                    <a:srgbClr val="003d2e"/>
                  </a:gs>
                  <a:gs pos="100000">
                    <a:srgbClr val="00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7160" bIns="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99"/>
                    </a:solidFill>
                    <a:latin typeface="Arial"/>
                  </a:rPr>
                  <a:t>Assessment</a:t>
                </a:r>
                <a:endParaRPr b="0" lang="en-US" sz="20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NYSED/School Library Services Summit June 29 and 30, 20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F968E2-E240-42CC-9540-4B33FAD46491}" type="slidenum">
              <a:t>5</a:t>
            </a:fld>
          </a:p>
        </p:txBody>
      </p:sp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5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b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69564"/>
                </a:solidFill>
                <a:latin typeface="Garamond"/>
              </a:rPr>
              <a:t>Library Media Program </a:t>
            </a:r>
            <a:br>
              <a:rPr sz="4000"/>
            </a:br>
            <a:r>
              <a:rPr b="1" lang="en-US" sz="4000" spc="-1" strike="noStrike">
                <a:solidFill>
                  <a:srgbClr val="a69564"/>
                </a:solidFill>
                <a:latin typeface="Garamond"/>
              </a:rPr>
              <a:t>Assessment</a:t>
            </a:r>
            <a:endParaRPr b="1" lang="en-US" sz="40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304812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440" indent="-55440">
              <a:lnSpc>
                <a:spcPct val="90000"/>
              </a:lnSpc>
              <a:spcBef>
                <a:spcPts val="601"/>
              </a:spcBef>
              <a:buClr>
                <a:srgbClr val="7b6d47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2500"/>
                </a:solidFill>
                <a:latin typeface="Garamond"/>
              </a:rPr>
              <a:t>Action Items:</a:t>
            </a:r>
            <a:endParaRPr b="0" lang="en-US" sz="2400" spc="-1" strike="noStrike">
              <a:solidFill>
                <a:srgbClr val="4b2500"/>
              </a:solidFill>
              <a:latin typeface="Garamond"/>
            </a:endParaRPr>
          </a:p>
          <a:p>
            <a:pPr marL="55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4b2500"/>
              </a:solidFill>
              <a:latin typeface="Garamond"/>
            </a:endParaRPr>
          </a:p>
          <a:p>
            <a:pPr marL="55440" indent="-55440">
              <a:lnSpc>
                <a:spcPct val="90000"/>
              </a:lnSpc>
              <a:spcBef>
                <a:spcPts val="601"/>
              </a:spcBef>
              <a:buClr>
                <a:srgbClr val="7b6d47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2500"/>
                </a:solidFill>
                <a:latin typeface="Garamond"/>
              </a:rPr>
              <a:t>Educational Technology</a:t>
            </a:r>
            <a:br>
              <a:rPr sz="2400"/>
            </a:br>
            <a:r>
              <a:rPr b="0" lang="en-US" sz="2400" spc="-1" strike="noStrike">
                <a:solidFill>
                  <a:srgbClr val="4b2500"/>
                </a:solidFill>
                <a:latin typeface="Garamond"/>
              </a:rPr>
              <a:t>Professional Development:</a:t>
            </a:r>
            <a:endParaRPr b="0" lang="en-US" sz="2400" spc="-1" strike="noStrike">
              <a:solidFill>
                <a:srgbClr val="4b2500"/>
              </a:solidFill>
              <a:latin typeface="Garamond"/>
            </a:endParaRPr>
          </a:p>
          <a:p>
            <a:pPr marL="55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2500"/>
              </a:solidFill>
              <a:latin typeface="Garamond"/>
            </a:endParaRPr>
          </a:p>
          <a:p>
            <a:pPr marL="55440" indent="-55440">
              <a:lnSpc>
                <a:spcPct val="90000"/>
              </a:lnSpc>
              <a:spcBef>
                <a:spcPts val="601"/>
              </a:spcBef>
              <a:buClr>
                <a:srgbClr val="7b6d47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2500"/>
                </a:solidFill>
                <a:latin typeface="Garamond"/>
              </a:rPr>
              <a:t>Focus group:</a:t>
            </a:r>
            <a:endParaRPr b="0" lang="en-US" sz="2400" spc="-1" strike="noStrike">
              <a:solidFill>
                <a:srgbClr val="4b2500"/>
              </a:solidFill>
              <a:latin typeface="Garamond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-158400" y="-1395000"/>
            <a:ext cx="2709360" cy="3342960"/>
            <a:chOff x="-158400" y="-1395000"/>
            <a:chExt cx="2709360" cy="3342960"/>
          </a:xfrm>
        </p:grpSpPr>
        <p:sp>
          <p:nvSpPr>
            <p:cNvPr id="207" name=""/>
            <p:cNvSpPr/>
            <p:nvPr/>
          </p:nvSpPr>
          <p:spPr>
            <a:xfrm flipH="1">
              <a:off x="1242720" y="-1395000"/>
              <a:ext cx="506160" cy="23022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b2500"/>
                </a:solidFill>
                <a:latin typeface="Arial"/>
              </a:endParaRPr>
            </a:p>
          </p:txBody>
        </p:sp>
        <p:grpSp>
          <p:nvGrpSpPr>
            <p:cNvPr id="208" name=""/>
            <p:cNvGrpSpPr/>
            <p:nvPr/>
          </p:nvGrpSpPr>
          <p:grpSpPr>
            <a:xfrm>
              <a:off x="-158400" y="-168480"/>
              <a:ext cx="2709360" cy="2116440"/>
              <a:chOff x="-158400" y="-168480"/>
              <a:chExt cx="2709360" cy="2116440"/>
            </a:xfrm>
          </p:grpSpPr>
          <p:sp>
            <p:nvSpPr>
              <p:cNvPr id="209" name=""/>
              <p:cNvSpPr/>
              <p:nvPr/>
            </p:nvSpPr>
            <p:spPr>
              <a:xfrm rot="20172600">
                <a:off x="-8280" y="264240"/>
                <a:ext cx="2409480" cy="1250640"/>
              </a:xfrm>
              <a:prstGeom prst="ellipse">
                <a:avLst/>
              </a:prstGeom>
              <a:gradFill rotWithShape="0">
                <a:gsLst>
                  <a:gs pos="0">
                    <a:srgbClr val="00cc99"/>
                  </a:gs>
                  <a:gs pos="100000">
                    <a:srgbClr val="003d2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7160" bIns="46800" anchor="ctr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20172600">
                <a:off x="120600" y="346680"/>
                <a:ext cx="2143080" cy="1084320"/>
              </a:xfrm>
              <a:prstGeom prst="ellipse">
                <a:avLst/>
              </a:prstGeom>
              <a:gradFill rotWithShape="0">
                <a:gsLst>
                  <a:gs pos="0">
                    <a:srgbClr val="003d2e"/>
                  </a:gs>
                  <a:gs pos="100000">
                    <a:srgbClr val="00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7160" bIns="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99"/>
                    </a:solidFill>
                    <a:latin typeface="Arial"/>
                  </a:rPr>
                  <a:t>Assessment</a:t>
                </a:r>
                <a:endParaRPr b="0" lang="en-US" sz="20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NYSED/School Library Services Summit June 29 and 30, 20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43297F-FEFD-45BC-AD87-5C2AF8A5B59D}" type="slidenum">
              <a:t>6</a:t>
            </a:fld>
          </a:p>
        </p:txBody>
      </p:sp>
    </p:spTree>
  </p:cSld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3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3T20:37:35Z</dcterms:created>
  <dc:creator> </dc:creator>
  <dc:description/>
  <dc:language>en-US</dc:language>
  <cp:lastModifiedBy> </cp:lastModifiedBy>
  <dcterms:modified xsi:type="dcterms:W3CDTF">2009-05-08T16:13:44Z</dcterms:modified>
  <cp:revision>110</cp:revision>
  <dc:subject/>
  <dc:title>Work Group Question here</dc:title>
</cp:coreProperties>
</file>